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EBB-E8D2-42E8-A85E-A1EA60C8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14A-ABDC-450A-A1FD-3C123F15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8F2-3F0B-4B55-82E2-AA8BF9AD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CA6-5205-424B-843D-660D130E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DFDE-D57B-42B4-8D84-78F13EFC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6DD-9372-42B2-819B-C59E1695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AD5-71E8-48E8-B04B-9AC25CA4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BFC-2AFE-49DE-8875-231747F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8B4-E89C-4F17-A502-90670DB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F116-445D-4F20-BEDB-25FE7EA3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DD8-F61E-46C3-9D8F-DE50377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AED-1BFA-4CFC-9D3B-564061E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6428-D9C3-4459-941A-3A5D02B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8128-2975-49E6-AC84-0445E54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7390-0B82-489D-BF3A-8C3C32B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7C8A-9174-4AE7-A2A0-03DA9FB7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4BD-95FA-4322-8D6E-AC968479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BE8-A1EC-4987-A687-B8F7D4D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68C-3528-4ABF-89C6-27265CB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B59-0969-48EC-B6A0-DF995C3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92-2DDE-4E16-A1F4-C725E87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5C4-C2C7-4675-A09E-E170451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A2D-9EF9-4B4C-9911-0462869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67E-A108-4E1E-9780-FBBCCEE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7EF-05B7-4396-A6AE-74E32B982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B2A-3961-46F3-B81D-E8F78D9C6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28600" y="-15228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audio" Target="file:///tmp/home/.config/libreoffice/4/user/gallery/Cat%20Screetching%20and%20Wolf%20Howl.wav" TargetMode="External"/><Relationship Id="rId7" Type="http://schemas.microsoft.com/office/2007/relationships/media" Target="file:///tmp/home/.config/libreoffice/4/user/gallery/Cat%20Screetching%20and%20Wolf%20Howl.wav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6600"/>
                </a:solidFill>
                <a:latin typeface="Verdana"/>
              </a:rPr>
              <a:t>How do YOU celebrate Halloween?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By Glinda the Good 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When is Halloween?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52578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loween is celebrated around the world on October 3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43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Early Halloween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loween originated in Ireland by the Celtic people, over 2000 years ago to mark the end of summ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7339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Jack-O-Lantern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52578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, Jack-o-lanterns are carved from pumpkins and lit with candles.  Originally the Celts used carved turnips to light their 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911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Trick or Tre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children dress up in funny or scary costumes and go from door to door in their neighborhood seeking trea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1641240" cy="231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130480" cy="23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2939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Spooky Thing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spooky things you might see on Halloween are haunted houses, ghosts, skeletons, witches, black cats and bat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658960"/>
            <a:ext cx="1801800" cy="237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2133720" cy="190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1860480" cy="159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 rot="1546200">
            <a:off x="7029000" y="762120"/>
            <a:ext cx="1809720" cy="134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124080" y="1600200"/>
            <a:ext cx="2892600" cy="312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55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Happy Halloween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5257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fun and be safe on October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1722600"/>
            <a:ext cx="34290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© Wendy Russell</dc:creator>
  <dc:description/>
  <dc:language>en-US</dc:language>
  <cp:lastModifiedBy>Wendy Russell</cp:lastModifiedBy>
  <dcterms:modified xsi:type="dcterms:W3CDTF">2007-08-24T18:28:05Z</dcterms:modified>
  <cp:revision>46</cp:revision>
  <dc:subject>Halloween Sample Story Template</dc:subject>
  <dc:title>PowerPoint Halloween Sample Story Template</dc:title>
</cp:coreProperties>
</file>